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33BA-136F-410B-83FA-F7896B1B3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72B6-3659-4B37-B630-A693E4037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5513C4-079E-4D4E-8FD6-9D619A2A7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219179-4540-483F-B0DA-3691FD5AE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832AEB-DCBF-476B-A629-CE0CB73F0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A68CC9-532B-4E45-95C7-50C0A9004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379420-DD17-410A-91BF-88982B46D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E33314-C950-48F7-9CA7-FD82236EF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B72969-EC7A-48BF-9177-390EF5498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344549-3F26-44A5-87A0-BF8D79454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006284-9109-4013-A60C-C40E16C53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AE5A67-75FB-4915-A048-D74287015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AC77-6558-418C-90F3-4BB8ABC7F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D61787-F177-4DF8-9E3F-98FC5D97F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A914FA-4454-469C-BB2B-6045C7901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9DCD9D-2946-40CA-9082-1F2595B8C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577FB2-CDDD-49E7-8F15-181FA66CB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EAC940-7050-451B-86F1-CCD02432C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3817E1-A2E8-4CD2-BD6C-4C59E228F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FC7F82-BF8B-4FA0-92AB-E5616EE5F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B30D17-2BFB-4034-B31F-B180A732E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EF3A1A-6969-44D5-8F8C-455658E48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58C7A0-E219-456B-AFF7-7879210B2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4586-4D6F-49EF-BF05-679BA37E2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939A15-7AC0-488B-B712-20CD6505A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8E593E-8705-4DB2-AE28-F778391E2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201863-FBFC-4CD9-9B17-938DDC2A3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CB5098-6E68-441E-AFC2-D47B9A399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4D1480-D9F0-4775-A4F9-360F4BCE9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94DAEC-D6DB-411F-AB00-89E693339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39F699-6D38-4CDA-B17A-DC412BB82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CBBA9B-F1AF-4CC3-8050-43E3C5A99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75BD04-56FA-4616-A045-382121DCF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A017A9-4A31-4C55-A7E6-E744A0A51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051AC-81DA-4C0B-A3EC-C3C185ACF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885AEF-57F0-4693-AB97-E7558BF9E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3825D5-5375-4632-9AF3-DC8F04793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D675D2-467A-4580-9832-ABACD1921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48E91A-2129-4E75-9246-0C55D40E9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004694-0DA4-4F21-9633-42E0D0757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4D3EC2-F1C8-49D9-A642-5118B539E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0E97CF-6791-4225-8C31-394AA9A01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53B9CB-187C-4DD9-8B20-19AA14DAC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1CB9FA-34CC-437E-8511-0FBCBEFB6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9A98CD-069B-4601-8C8D-2718AE5A8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5CD63-6287-4599-B001-5693F159F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AD212C-54F5-4877-9F11-D22AAB831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356347-5D20-406D-80EF-52BA5EF9C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C60952-6EA8-41F5-B3E0-B4BFF4B28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DBE626-F9E8-4C15-B897-B8C71891F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432899-8D96-4ADE-8E93-D199DACD1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036AB-5E98-4CA0-8E34-3B83AE6F8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2B5BB-3877-41CD-A116-B1D64B86C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FCB3A-FDD3-475B-9645-50C50E46E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7AC5D-3EF0-46A5-81AC-8EDD877A9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22445-2DFB-4C56-A65B-77E877D99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9B7B-29D1-4EB3-AB1B-7BA898268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2A5AC-7869-4960-9942-9EB240F8A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D773A-235B-4D9B-9E76-DF0CC2FAF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10F43-50E5-4373-82D6-EFF85B692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4E474-89A5-4285-AD3C-DFB4D8C25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D2797-A144-4CA5-8802-E564C077B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3F9B4-14DB-4700-86D7-B8685B797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869DB-44E2-40BB-AA4C-2AC04E34D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8993A-1055-466F-B36C-5B8305D29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29CFD-0AA7-4F21-99C8-FEE8422C6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AE768-AEA3-4867-960D-90E5D3598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D9D6-1B6C-4737-A029-F8A2A24E1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E4744-60B4-4E7D-B40F-F12F4841A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EC254-ACA4-4CA3-81B0-D697B7B4F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C5FBD-38E6-4769-8B62-D74D7399A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CEC88-8283-401A-BE78-CEB5461A4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09A39-C490-4B16-B4C7-3A9850E40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9673A-5A0B-4836-AB5D-08954EFFD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F25BA-A89F-4564-84EB-A2072DBAE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987E4-122A-4070-BCBF-BB6BFD686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C1E4BD-5951-43C2-8854-4554BBC76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36F7A-CC48-4F56-8EF0-428A1702C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E3C2-E10C-418B-9620-623D3155D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E2B0E7-C8E5-4470-A46D-B7A430C6B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60EA21-6E1E-4558-86D3-A9BE4AE7F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7835D-EF7B-4629-9934-A99574D78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00DC9-4ACF-4B37-A30D-D436849BE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DD6214-9887-43D3-84BA-DDA76989C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8B82BE-3178-4039-8D6F-B43E808BB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12768-FF3F-4C2F-A2F3-AE1AAFB8B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2CC7F6-BADF-48F0-B006-D898812DF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091C3-AF40-4748-B332-8232D8D90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34D098-BDD7-4300-86C4-1F3857B76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5598-F02D-4A2D-BA7E-023A58481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878D2D-BFE9-46E5-8CEB-83A5CC8DD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6A2882-04DC-41BB-B0F2-E995EE689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185CF6-112F-427C-A00A-AFF595908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F64529-56F7-4A07-8EAE-0015B6517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7C4352-B051-4966-B472-ECBCB6C7B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AD61D5-0E56-4B30-A1D3-C690A304D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2F85B8-7768-407A-9000-CAA4AFC30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F3C810-6C3C-4331-A227-B3A52287C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D36D11-DDAF-4126-AB61-7BB0BE9A2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067A47-6723-4D66-9410-CE144A189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CA4C-36A2-4446-93B9-CB6C6B760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A92A03-6787-4C6A-9594-FD2913429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E62D5C-7643-4849-B6A4-6009496A3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77441F-AF3E-4A16-853C-FA9978731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7277FE-3958-4B72-94DA-98CD430CC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8ED48C-DF28-40C1-8B7B-A5C7CD19A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9BA4AD-1973-48AF-AAA8-3119882B9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FC852A-E840-4CEE-9CB8-72B1384A3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6A549E-0FCE-4AB4-9EB1-8F024AC26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64FA7C-7EAB-4695-9CE0-5AD5D95B8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7E08E4-157F-450A-BD61-2AC9E692B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017F-5E45-4111-A841-E0862B791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3163B2-120B-46A2-B99A-1BBB44909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176376-C7D5-4B07-B24E-AFA4C1DE5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D868E1-183F-4297-8C47-00387B081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9F4631-9FD8-4331-8943-29D97CA50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D9FBF0-1661-44FB-A098-08C0F86EE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5BA690-269B-4309-AA0E-88963A9A5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6609B4-E329-4C03-9ABA-C84C2888F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3DC7D2-3F7B-45D8-AD7C-28B132471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F06B6E-C427-4763-8B84-855C811F0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304A8C-C7B9-43E7-8FD6-51502CEEE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4050-AE66-48A8-A2E2-6925ABE93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665936-D349-4F6D-A47A-D7907B60D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D1A358-D334-4C43-AC9F-3461AABB7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C75112-C101-471D-9E3D-EA49A47A7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E9EE95-07E0-4010-9C85-5B677D3D5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356E59-A7ED-4CC8-B8F6-E48BEFA72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5DC12F-CA5B-4604-9FC4-B67BE4E0A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10A42A-A579-4F8E-A461-AFF3C873F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A728F2-4D30-40C2-91F6-D13F35D91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DDB190-6CFC-4AE7-A3A8-4D4BF23D5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83F23E-91CC-4F4F-86CC-C29B79710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1610-8F01-4CE8-AE54-258A544EE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6A1061-9ED7-4257-9CD1-283A32A46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443F0C-7F04-4433-A171-2E40B9619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3FB666-80CB-4CF1-B0EE-A1D0962F0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0B874D-CB96-46A8-8646-876A6AC5A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2213FF-BE43-4AAF-9C49-6FFCE4523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295F0E-DD42-404F-A92C-942A3B11B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BEE054-1B50-4C7C-B1D5-BCA7C50AF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F9B98F-F15C-48AA-93CE-A876CD4BD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2B4A27-FB2D-4046-A7A0-2D6FED387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5A7A63-6EAE-402A-A6BF-1B943AA73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544FA-1534-49BD-87D0-4882E1FE1C5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642CE-2C1E-414F-B66F-D375840D1CB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8051B-44C4-463D-A288-866580AED4E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18673-EBA9-4F93-9D44-574049B1D62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FD246-6D44-4DB1-BC19-3D88A93ED31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87595-C522-4ACA-B195-E7D88A311CD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3DC79-8CAD-4DB9-8818-35494087946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A48CA-8FB1-44DA-A01D-4AB3EDA8FB0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B0B2A-0C83-47A8-B91D-FFDD65C33A4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0758A-FC1D-4839-9C3F-23929C28BE6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7B749-48FD-4E5E-8AAD-BF6FCFDB5FF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8B83B-FAA5-41A9-A2BD-8D60E554575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188 Prúd vzácnej vody život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úd vzácnej vody život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ám z kríža pramení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áš trest tam Božia dobrot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 milosť premení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a k zdroju spásnej istoty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rak viery upiera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eď na tom kríži Golgoty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j za mňa zomrel Pá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lotrovi na kríži dal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án spásy istotu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j nám tým cestu ukázal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o smrti k život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a k zdroju spásnej istoty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rak viery upiera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eď na tom kríži Golgoty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j za mňa zomrel Pá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en tá krv jeho nevinná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á moc hriech každý zmy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obeť jeho zástupná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á právo večne ži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a k zdroju spásnej istoty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rak viery upiera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eď na tom kríži Golgoty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j za mňa zomrel Pán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6-11T16:00:00Z</dcterms:modified>
  <cp:revision>21</cp:revision>
  <dc:subject/>
  <dc:title>Je veľký náš Pán, on slávy je Kráľ Nech do všetkých strán  spev vrúcnych znie chvál.</dc:title>
</cp:coreProperties>
</file>